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TYPE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ED3A-8889-486C-9542-4B6858C13A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Frac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 the divi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division sig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multiplication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cancel if you can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numera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he denom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divide fractions and whole number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Write the whole number as a fraction. Use 1 as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3 ÷2/3 =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.  Write the whole number as a Fraction.   3/1 ÷ 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. Invert the divisor. Change the division sign to a multiplication sign. 3/1 x 3/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. Multiply the numerators and denominators. 3x3 = 9/2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1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. Write the improper fraction as a mixed number.   9/2 = 4  and 1/2.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an improper fraction to a mixed number, divide the numerator by the denominator. Put the remainder over the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450-D405-4AE0-A615-8D8BF2CD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6D8-CA2D-4627-A4E5-90EDA9F7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7B9-9B5D-4BF9-929E-96936543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440-6AA7-4B05-BBC8-1DD4A7C6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7ECE6-C493-48A9-8D43-6416B630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7C909-D07A-4128-BF9C-5C246AF1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C1492-ABAA-4ECD-BE97-B441E224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30ED9-477D-454B-A44B-A25B7AC5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4698E-770F-4D5D-B725-76033336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11AD6-97C9-4FBC-882A-E0C57C05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CAC58-E31C-4AA8-AC0E-A9524B9C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A21-4EC0-4AE8-AA04-57FBA6EE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12912-4E25-48EF-8EB0-C0A25593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0D113-FFA6-45F4-AAE2-55F042CF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DF972-0796-45F6-B994-9423753C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DEF7F-2240-48F1-AC0F-D5DA74D9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9EB07-48A9-4CF7-9988-877183E3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DB1-8F3A-4E7D-B3C8-54AF12BC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462-854A-4450-9D30-CCE971AF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381-4704-40C6-BF17-210C7606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47D-892A-4077-ABCF-AC3FF3AC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CD9-86C0-4BBE-AEBA-54DA30D8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628-AC24-40E3-A775-B7CDD658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E63-F3E0-4E3B-8BFF-C801C3D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57B8-9173-490B-BBBB-78B983F27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886D-28BB-43AB-8209-19BC84C98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viding Fraction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. Emerlina C. Binuy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Object 5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0574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6400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rt the divis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the division sig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 multiplication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cancel if you can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numerato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y the denomin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Object 4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082600" cy="632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to divide fractions and whole number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 Write the whole number as a fraction. Use 1 as the denomina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ide 3 ÷2/3 =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1.  Write the whole number as a Fraction.   3/1 ÷ 2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2. Invert the divisor. Change the division sign to a multiplication sign. 3/1 x 3/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7238880" y="1905120"/>
            <a:ext cx="106704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Object 3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36232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2285640"/>
            <a:ext cx="5715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3. Multiply the numerators and denominators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x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9/2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1x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 4. Write the improper fraction as a mixed number.   9/2 = 4  and 1/2.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minder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hange an improper fraction to a mixed number, divide the numerator by the denominator. Put the remainder over the denomina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Object 3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289548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5:54:18Z</dcterms:created>
  <dc:creator>emerlina binuya</dc:creator>
  <dc:description/>
  <dc:language>en-US</dc:language>
  <cp:lastModifiedBy>RomaK</cp:lastModifiedBy>
  <dcterms:modified xsi:type="dcterms:W3CDTF">2015-09-04T07:39:34Z</dcterms:modified>
  <cp:revision>11</cp:revision>
  <dc:subject/>
  <dc:title>Dividing Fractions</dc:title>
</cp:coreProperties>
</file>